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C27-525B-42D9-874C-FA83D45D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1BF-C160-4BE2-826D-16D8240F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5AEE-671C-4921-AF6D-0CED0823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A14D-2D8D-434B-87BF-329678F6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849E-0BA9-40CE-95F5-56179504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D0B4-1B25-4A60-95AA-A062D4DD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7103-78DC-41EE-A7E9-8D4768C8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7E3B-1AFD-4D9E-90E2-22AD2657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6DB5-C4AE-47AF-9CC2-3473D297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3A9E-0FB3-4961-8E47-D5BEFC21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08BE-062B-4A60-9A2A-8C066B53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620-3FC9-4E07-865C-AB58BDDA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5FC6-3EED-4246-AA9C-FC165F1A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E882-10DA-45A0-A375-5F99A353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A736-B88A-40E5-8124-FB5B5BF2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8AF3-EC10-4F87-BDAE-9A55A212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BC89-3E02-401A-A2F7-467F3BC4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327-78E6-4C42-8012-71CC167C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DF9A-6042-4E2B-924A-240E8349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38B1-5A78-4B79-A181-5DB2A915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756B-F4B3-4D40-9A51-71ED4C10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7613-392C-40DF-86E9-FEC564C7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31F-67AE-4A19-9684-BBE6642B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A89-CBDA-4F1F-A02E-CF95C849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82AA-77FA-42D7-8691-D907B6424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694B-5221-4168-9CED-543AD00FF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-By-Day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Gettysbu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kett’s Charge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kett’s Charge –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kett’s Charge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030200" y="0"/>
            <a:ext cx="233208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-2 Alt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-685800"/>
            <a:ext cx="746748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tle Round Top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tle Round Top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448920" y="1981080"/>
            <a:ext cx="225108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-3 Alt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-993600"/>
            <a:ext cx="5943600" cy="78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4:11:40Z</dcterms:created>
  <dc:creator>cjohnson</dc:creator>
  <dc:description/>
  <dc:language>en-US</dc:language>
  <cp:lastModifiedBy>Christopher Johnson</cp:lastModifiedBy>
  <dcterms:modified xsi:type="dcterms:W3CDTF">2006-04-12T14:34:32Z</dcterms:modified>
  <cp:revision>4</cp:revision>
  <dc:subject/>
  <dc:title>Battle of Gettysburg</dc:title>
</cp:coreProperties>
</file>